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24F-E073-4880-8E77-FB8DD1D7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2B9-20B7-4596-BAE7-E8278842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75B-2FCF-4959-9140-2D34E0E5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C99-1C02-4641-8CD2-C491C913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BD4-F058-452F-B81C-1FF5FDF6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15A-AF60-4E28-A0B7-030BA002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0A5-1F64-4067-932E-69C7A27F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343-950B-4887-97E5-72A2C94F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F44-A75F-414A-AC3A-9B9B7FB1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075-6D91-451F-9CE8-7851B0E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32A-CA06-42E2-937A-70100ED0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EE8-7BE2-4A92-9C77-9A077C39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4A35-0ED7-48A6-83ED-FA5FEB4A1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495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ric Conversions Ladder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j00788050000[1]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54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58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62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65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68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72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75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79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80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84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85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89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90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_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 cm = _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98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99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108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0"/>
            <p:cNvSpPr/>
            <p:nvPr/>
          </p:nvSpPr>
          <p:spPr>
            <a:xfrm>
              <a:off x="70484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lucy.chambers</cp:lastModifiedBy>
  <dcterms:modified xsi:type="dcterms:W3CDTF">2011-01-24T21:14:46Z</dcterms:modified>
  <cp:revision>28</cp:revision>
  <dc:subject/>
  <dc:title>Slide 1</dc:title>
</cp:coreProperties>
</file>